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DAC6-916F-4E14-8F0D-B1302FBA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DC0E-7B73-4295-BDB2-3255CB39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CFF6-9073-45F3-ABB9-3AFCFF48D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A0C4-666B-49E8-9636-1DB6BD08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1830-A0A3-4B86-9F13-0DCB2A649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E38D-B9B4-4917-AA35-797CBDEF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F16D-BFC7-47B8-8659-9198972F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C6E3-1BDA-46D0-9852-2D44EFC7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E49F-8E0E-47B6-BD13-0BB33714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57B1-4920-4CB3-BA4C-A3D3F394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6EAC-0F75-463C-8D64-13948BFE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8FFA-8D96-465F-8B28-95A0960F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7A03-0121-4B62-ABE1-F91592AF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3B8A-9296-47BE-AEEA-CF5F86FD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ECAC-96FE-460F-8EAC-AF4767C9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22DA-AE49-43B9-A8DF-F9697CDC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A2D6-DB49-490F-83FB-963F9C2A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85DC-B5B0-4C88-A0B9-2A48CAB4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7F90-B83E-49D3-95C5-5B7457D1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965A-4FE6-4E08-8BC3-3A90B9B7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0E82-C415-4FC0-9FAD-279D1E4C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73DC-1374-4FEF-824A-D80C4873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94DF-AF51-49E8-AB0E-90DDA17D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5CE6-3214-4C32-A6DE-CBA4DEF8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E3DF-43BC-45C7-ABEB-43AACB083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CB8F-237D-483D-BA8C-A141B15F45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1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Welcome to 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Earth Science!</a:t>
            </a:r>
            <a:br>
              <a:rPr sz="76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89548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th Mr. Ful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00200" cy="1220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581280" y="1981080"/>
            <a:ext cx="489240" cy="10670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048440" y="1676520"/>
            <a:ext cx="2095560" cy="10476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457200" y="2290680"/>
            <a:ext cx="7848720" cy="4567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-152280" y="3124080"/>
            <a:ext cx="91440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7315200" y="152280"/>
            <a:ext cx="1600200" cy="12207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4038480" y="3809880"/>
            <a:ext cx="3581640" cy="2106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457200" y="2895480"/>
            <a:ext cx="266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ease Not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es and Bellwork are usually a hint to you will see on a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es and Bellwork often contain test questions or diagrams that you will most likely come across during a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st way to get a good grade in class is to complete note summaries and bellwork!!!!!!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Labs and Activiti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s and Activities are worth 30% of your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notes, we will usually spend between 30 and 40 minutes on a l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s or Activities are due either the day they are assigned or the day af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934320" y="457200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take lab safety very seri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one caught goofing around in lab will receive a zero on the assignment for that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one caught abusing school property and lab materials will also receive a zero on the assignment for that day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were absent for a lab, come see about a makeup assign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s should always be written in complete sent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2194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b Write-Up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What is the purpose of this lab? Or, Why I am doing th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ypothesi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prediction of what you expect 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ppen (an educated guess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ke sure you always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 a hypothesis!!!!!!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teri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What kind of equipment or materials will I need to complete the lab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cedure-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hat 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aken to achieve a desired res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s/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What kind of data or information did I obta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Questions and Conclus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What did I learn? Did I perform the lab correctly? If not, why not? What went wrong? Each lab will have questions. Be sure every question is answered correct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WAYS ANSWER IN COMPLETE SENTENCES!!!!!!!!!!!!!!!!!!!!!!!!!!!!!!!!!!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9046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7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8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5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6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9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0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7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8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5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6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Tests and Quizz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s and Quizzes are worth 50% of your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st thing you can do in this class is miss a test or quiz and not make it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up a test or Retake a test you will need to visit: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http://quizstar.4teachers.org/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egister for my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ademic Integr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are caught cheating, I will take the assignment from you and the work will count as a zero in my grade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ying other peoples work is a form of Plagiarism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257800" y="3514680"/>
            <a:ext cx="2438280" cy="18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vies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n effort to listen and learn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will almost always be questions that accompany the mov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vie will often be followed by a quiz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: tests and quizzes are worth 50% of your grade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Earth Scienc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are 4 easy things you will need to do by the end of 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 the assignment you’re working on right 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ster with Quiz star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(so you can take online tes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ster with Homelink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(so you can check your grade onli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ake your 1st quiz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324480" y="4343400"/>
            <a:ext cx="14940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If you are absent…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lass is divided up in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in parts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asswor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abs or Activit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sts and Quizz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are ever absent and need to make up classwork, labs, or tests; please go to my class website: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ttp://wikifuller.wikispaces.com/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Classwor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work is worth 10% of your gr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work consists of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rnell notes, Test notes, and Bell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lwork is due every Friday unless otherwise st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day of Bellwork is worth 20 poi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eeks Worth of Bellwork (5 days) is worth 100 point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lwork can be made up online at my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9242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rnell No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nell Notes are due on the day of the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day of Cornell Notes is worth 50 poi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Unit we will have 3 or 4 days of not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3 days of notes is worth 150 points and 4 days of notes is worth 200 points!!!!!!!!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669080" y="0"/>
            <a:ext cx="1474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Question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What side do I write the question on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sw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Questions always go on the left side and the answers always go on the right s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1523880"/>
            <a:ext cx="487692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2666880"/>
            <a:ext cx="4800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91320" y="152388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67080" y="5867280"/>
            <a:ext cx="4876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2362320"/>
            <a:ext cx="761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48520" y="23623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s/diagrams/draw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5257800"/>
            <a:ext cx="3581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867280" y="26668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goes on the lef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and the answer go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righ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66720" y="2819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 writ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60958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43400" y="2057400"/>
            <a:ext cx="4800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1752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wr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9938000">
            <a:off x="1445760" y="2421000"/>
            <a:ext cx="685800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 Black"/>
              </a:rPr>
              <a:t>Cornell Note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60"/>
                            </p:stCondLst>
                            <p:childTnLst>
                              <p:par>
                                <p:cTn id="18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6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34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38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22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267080" y="1523880"/>
            <a:ext cx="487692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2666880"/>
            <a:ext cx="4800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1320" y="152388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67080" y="5867280"/>
            <a:ext cx="4876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2362320"/>
            <a:ext cx="761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48520" y="23623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s/diagrams/draw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5257800"/>
            <a:ext cx="3581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26668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goes on the lef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and the answer go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righ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266720" y="2819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 writ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343400" y="60958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34120" y="2743200"/>
            <a:ext cx="2361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20 poi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38680" y="5486400"/>
            <a:ext cx="2362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25 poi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43400" y="2057400"/>
            <a:ext cx="4800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43400" y="1752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wr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38680" y="1905120"/>
            <a:ext cx="236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5 poi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1219320"/>
            <a:ext cx="3657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Quick writes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 are a dail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question worth 5 points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That you answer in 1-2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Sentences. Quickwrit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are designed to ge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you thinking!!!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 Black"/>
              </a:rPr>
              <a:t>Cornell Note Poi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42900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Main Section 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 of you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notes are worth 20 poi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480060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Summaries 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are worth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20 points.  Summari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contain diagrams a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important inform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which may be on the test!!!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st No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Notes are notes that you can use on the test!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who complete their test notes usually receive an A or B on the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Notes will be passed out 1-2 days before the test and they are to be completed as ho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Notes are due on the day of the test along with Cornell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9:42:41Z</dcterms:created>
  <dc:creator>jfuller</dc:creator>
  <dc:description/>
  <dc:language>en-US</dc:language>
  <cp:lastModifiedBy>jfuller</cp:lastModifiedBy>
  <dcterms:modified xsi:type="dcterms:W3CDTF">2012-01-09T23:54:24Z</dcterms:modified>
  <cp:revision>9</cp:revision>
  <dc:subject/>
  <dc:title>Slide 1</dc:title>
</cp:coreProperties>
</file>